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646-859B-4B01-A456-8E159DCB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1C0-EC50-43B3-B137-B08FC769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555-B7DB-4EF5-B4D4-622310BF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D11-E8B3-4040-943C-7C621ACF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9F6-362B-4813-88DC-28D57CCD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798-0286-4AA7-A14A-BD4EB0DF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714-D5A0-4DEF-A369-2F15150D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352-53AE-4951-B3A6-CA59009B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83F-255B-4E34-B6F1-3B9831C3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280-C4AB-47F1-ADD2-3146B331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3CB-F547-41FF-8417-CB5BC6EB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B25-3464-44DE-BF0D-2AB108E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5F2026-7CDC-4A95-927A-5D9C097FB7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arthy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E. Pop Culture in the Cold War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ld War themes in film, television, music, and popular fi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Crucibl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y cases popular in film and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“Atomic Boogie” and “Atomic Bomb Bab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rosh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9760" y="179280"/>
            <a:ext cx="96012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Lesson Objective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students will be able to explain the Red S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students will be able to discuss McCarthyism and it's effects on Americ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tudents will be able to explain how the Cold War affected America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. McCarthyism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enator Joseph McCa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McCarthy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Unfair tactic of accusing people of disloyalty without providing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ep. did not stop him thinking it would help win 1952 presidenti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86400" y="18288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B. McCarran Ac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KA: Internal Securi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llegal to establish a totalitarian government in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ommunists needed to publish their records and register w/US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. McCarthy's Downfall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ccusations of Communists in the US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upport from the public began to f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ear and power wa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ied in 19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0"/>
            <a:ext cx="54864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97200" y="63360"/>
            <a:ext cx="5875200" cy="748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6880" y="63360"/>
            <a:ext cx="6462720" cy="748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D. Facing the Bomb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ear of Communism and nuclear war affected America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viets test the H-bomb in 195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“Duck and Cover” dr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omb she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rills would not keep people completely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allout would ki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8:49:40Z</dcterms:created>
  <dc:creator>Courtney Huro</dc:creator>
  <dc:description>Presentation Layout Template</dc:description>
  <dc:language>en-US</dc:language>
  <cp:lastModifiedBy>School District U46</cp:lastModifiedBy>
  <dcterms:modified xsi:type="dcterms:W3CDTF">2011-02-24T13:32:05Z</dcterms:modified>
  <cp:revision>3</cp:revision>
  <dc:subject/>
  <dc:title>Technical Polygon</dc:title>
</cp:coreProperties>
</file>